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251-7430-432B-A9BC-A31B718B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68F-BFF1-48A1-AE45-0BE670D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A81-1B81-4D2E-AAFF-AB7F2EDF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DDC-A8B9-4D5C-8C2D-49B5987A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6B3-D0A3-4D76-B2C9-28058704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CD6-4138-4FA3-98A0-714749F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14B-D534-41B0-948C-6C0F412D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90E-6D6C-4EEE-ADCD-58A28FDE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9F3-9832-4D13-80CC-B794920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E2F-EBDE-41B5-ADAA-0CBC87A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875-B485-44E0-AD80-C49D6FA4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A60-49FF-4EA7-BF26-161E0F86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60B5-BAF3-43DB-9151-84700361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590920"/>
            <a:ext cx="4648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eeds Dispersed By W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umbleweedsnowman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532320" cy="409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43200" y="5335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Tumbleweed Snow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ttonseed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301788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4572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otton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liderseed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3570120" cy="344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Glider S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8380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Parachute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rachuteseed3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1244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rachuteseed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316404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8380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Parachute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pinnerseeds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838760" cy="324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8120" y="7621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Spinner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hirybirdseed2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5342040" cy="348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7621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Whirlybi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hirybirdseed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5715000" cy="3767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52680" y="9144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Whirlybi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9548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Tumblew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14239" t="26161" r="51566" b="12964"/>
          <a:stretch/>
        </p:blipFill>
        <p:spPr>
          <a:xfrm>
            <a:off x="2362320" y="121932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8:05:35Z</dcterms:created>
  <dc:creator>Plano ISD</dc:creator>
  <dc:description/>
  <dc:language>en-US</dc:language>
  <cp:lastModifiedBy>Plano ISD</cp:lastModifiedBy>
  <dcterms:modified xsi:type="dcterms:W3CDTF">2003-05-05T13:14:40Z</dcterms:modified>
  <cp:revision>2</cp:revision>
  <dc:subject/>
  <dc:title>PowerPoint Presentation</dc:title>
</cp:coreProperties>
</file>